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toon4.wav" ContentType="audio/x-wav"/>
  <Override PartName="/ppt/media/applause.wav" ContentType="audio/x-wav"/>
  <Override PartName="/ppt/media/hilari2.wav" ContentType="audio/x-wav"/>
  <Override PartName="/ppt/media/cowbell.wav" ContentType="audio/x-wav"/>
  <Override PartName="/ppt/media/RENSCREM.wav" ContentType="audio/x-wav"/>
  <Override PartName="/ppt/media/kiss2.wav" ContentType="audio/x-wav"/>
  <Override PartName="/ppt/media/cartoon3.wav" ContentType="audio/x-wav"/>
  <Override PartName="/ppt/media/cartoon2.wav" ContentType="audio/x-wav"/>
  <Override PartName="/ppt/media/cartoon1.wav" ContentType="audio/x-wav"/>
  <Override PartName="/ppt/media/door1.wav" ContentType="audio/x-wav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C20A3-691A-4F7B-B3AE-16E57930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CA5CC-0787-4CFA-B50E-7DB3A059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EE120-C056-4FE4-A699-3B628313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6BB90-21FB-4968-B45F-0D478287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A6A8-CEB8-460B-B478-98CE1C8C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0B98-82FA-4149-9621-EB4C4B9D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A3BF-BBF6-4733-B7D1-A5A0D8C0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C7C8-E37B-476F-A58D-F6F71884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F9EE-82CF-47B6-86B2-AEB3D1AF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FD2B-DFAC-42CB-8460-32BAEBDE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BE05-FB22-4D62-A84D-C67249D2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EA786-D2F5-406F-8AE8-8DA2559D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A0D3-FF38-484F-924E-740466EB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6813-7B6D-4F4B-B3D4-CC2ABB3F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B2DA-BA96-44E6-B5B1-EB3E4332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F9F3-1D54-40E2-AC77-B4C0151A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F776-65DC-43EA-A2A4-7962EE65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8DBD4-011F-4E22-9243-849A5E58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99E85-6CA7-4077-9C57-6C06A2A5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29073-6CC8-4EF2-85DC-602508B5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365D3-E7A9-423A-88B0-E2A05943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AA4CC-069B-4B00-A492-527A42EE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4B32F-2025-4155-B22B-30612667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BC18B-C105-4D74-B3CA-AACD43F0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99CF-0E39-43E4-A74C-D74E8781354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4662-E8D0-44A2-A04C-6611B666A23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1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oor1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ENSCREM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wbe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iss2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ilari2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3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4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2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uess the Covered Wor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nne Whit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oo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NSCRE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45720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t’s review our words.  Watch carefully because they will flash on the screen for just a moment. We will clap as we spell the word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228600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Type 1</a:t>
            </a:r>
            <a:r>
              <a:rPr b="1" lang="en-US" sz="96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228600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68580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190512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762120"/>
            <a:ext cx="769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006666"/>
                </a:solidFill>
                <a:latin typeface="Arial"/>
              </a:rPr>
              <a:t>GREAT JOB!</a:t>
            </a:r>
            <a:endParaRPr b="0" lang="en-US" sz="10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9880" y="3352680"/>
            <a:ext cx="1667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Say It!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82880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8195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8098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7242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56386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is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lari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29:26Z</dcterms:created>
  <dc:creator>Piedmont Elementary</dc:creator>
  <dc:description/>
  <dc:language>en-US</dc:language>
  <cp:lastModifiedBy>Connie Campbell</cp:lastModifiedBy>
  <dcterms:modified xsi:type="dcterms:W3CDTF">2002-05-31T21:57:07Z</dcterms:modified>
  <cp:revision>4</cp:revision>
  <dc:subject/>
  <dc:title>Guess the Covered Word</dc:title>
</cp:coreProperties>
</file>